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E75-2096-43E7-9E58-29D4E920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0FA-8B03-4415-8057-A9492E08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D81-3F7C-4123-9019-22065F99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374-507B-4551-833F-05C16DCE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9C8-AD9D-49D7-B660-F997A6AB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18FB-4F75-4392-91BF-77D9ECE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B0BC-ABD8-40B1-8773-3744583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A60-730E-4B48-8D10-50701FF8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AF7-63E8-42CA-BC48-CEC19588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C622-DFB0-4659-8362-6183BF6F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5692-2E73-42EE-89F6-7775455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819-4E73-49F8-A2F6-AE091FC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4C43-57FC-40EC-B48B-CF6CF6C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099F-1272-4AAF-B37F-D03F7E0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470B-05FD-43A8-9B8B-A982138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CAA4-0509-4120-81CB-4EF463A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3BB-2D27-4EFF-89C9-50043E87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42C-7226-424B-B707-C9D18467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663-FE6F-4B53-8F94-A0A0660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6F7-C0CA-443B-9826-580B8D10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792-3F67-46E4-B6CC-3EAF40D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CD2-F808-4E86-A2CC-5013CE2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8C0-54CF-43C3-9F72-F5D9C53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24D-F83F-468B-BEDD-37F37EF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812-8608-4F49-97F6-465AE6933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083-A7A1-42FB-A5F1-308830C11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367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700" spc="-1" strike="noStrike">
                <a:solidFill>
                  <a:srgbClr val="000000"/>
                </a:solidFill>
                <a:latin typeface="Tahoma"/>
              </a:rPr>
              <a:t>Canada</a:t>
            </a:r>
            <a:endParaRPr b="0" lang="en-US" sz="20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head of the stat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Содержимое 4" descr="Queen_of_canada_wob.jpg"/>
          <p:cNvPicPr/>
          <p:nvPr/>
        </p:nvPicPr>
        <p:blipFill>
          <a:blip r:embed="rId1"/>
          <a:stretch/>
        </p:blipFill>
        <p:spPr>
          <a:xfrm>
            <a:off x="2195640" y="1484280"/>
            <a:ext cx="3960720" cy="457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legislative power is represented by the Parlia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Содержимое 4" descr="canadianparliament.jpg"/>
          <p:cNvPicPr/>
          <p:nvPr/>
        </p:nvPicPr>
        <p:blipFill>
          <a:blip r:embed="rId1"/>
          <a:stretch/>
        </p:blipFill>
        <p:spPr>
          <a:xfrm>
            <a:off x="395280" y="2060640"/>
            <a:ext cx="4968720" cy="31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651280" y="2060280"/>
            <a:ext cx="30351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Que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n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ouse of Com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capital of Canada-Ottaw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800px-Colline_du_Parlement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Official languages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English and Frenc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6" descr="D4EBE0E320C2E5EBE8EAEEE1F0E8F2E0EDE8E8"/>
          <p:cNvPicPr/>
          <p:nvPr/>
        </p:nvPicPr>
        <p:blipFill>
          <a:blip r:embed="rId1"/>
          <a:stretch/>
        </p:blipFill>
        <p:spPr>
          <a:xfrm>
            <a:off x="0" y="1557360"/>
            <a:ext cx="450072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4EBE0E320D4F0E0EDF6E8E8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original people-Inuit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5" descr="inuit"/>
          <p:cNvPicPr/>
          <p:nvPr/>
        </p:nvPicPr>
        <p:blipFill>
          <a:blip r:embed="rId1"/>
          <a:stretch/>
        </p:blipFill>
        <p:spPr>
          <a:xfrm>
            <a:off x="468360" y="1351080"/>
            <a:ext cx="83516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Welcome to Canada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map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anada"/>
          <p:cNvPicPr/>
          <p:nvPr/>
        </p:nvPicPr>
        <p:blipFill>
          <a:blip r:embed="rId2"/>
          <a:stretch/>
        </p:blipFill>
        <p:spPr>
          <a:xfrm>
            <a:off x="1187280" y="1125360"/>
            <a:ext cx="66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Flag of Canad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5" descr="800px-Flag_of_Canada_svg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c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oat of arms of Canada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7" descr="Coat_of_arms_of_Canada_modern"/>
          <p:cNvPicPr/>
          <p:nvPr/>
        </p:nvPicPr>
        <p:blipFill>
          <a:blip r:embed="rId1"/>
          <a:stretch/>
        </p:blipFill>
        <p:spPr>
          <a:xfrm>
            <a:off x="2484360" y="1557360"/>
            <a:ext cx="3746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national anthem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O Canada! Our home and native land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True patriot love in all thy sons comma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With glowing hearts we see thee ris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The True North strong and fre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From far and wide, O Canad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We stand on guard for th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God keep our land glorious and fre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O Canada, we stand on guard for th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O Canada, we stand on guard for th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Канада! Наш дом и родная земля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рдца твоих потомков движимы любовью к теб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пылающими сердцами мы видим твой восход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 — Верный Север сильный и свободный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 всех сторон, о Канад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стоим на страже тво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 сохранит Бог нашу страну: великолепной и свободной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Канада, мы стоим на страже тво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Канада, мы стоим на страже тво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Canada - .mp3" descr=""/>
          <p:cNvPicPr/>
          <p:nvPr/>
        </p:nvPicPr>
        <p:blipFill>
          <a:blip r:embed="rId1"/>
          <a:stretch/>
        </p:blipFill>
        <p:spPr>
          <a:xfrm>
            <a:off x="324000" y="5965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anthem of australia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76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988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anada is a parliamentary democracy and a constitutional monarchy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Рисунок1"/>
          <p:cNvPicPr/>
          <p:nvPr/>
        </p:nvPicPr>
        <p:blipFill>
          <a:blip r:embed="rId2"/>
          <a:stretch/>
        </p:blipFill>
        <p:spPr>
          <a:xfrm>
            <a:off x="324000" y="1371600"/>
            <a:ext cx="856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iberal part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Содержимое 6" descr="liberal-party-of-canada_5474.jpg"/>
          <p:cNvPicPr/>
          <p:nvPr/>
        </p:nvPicPr>
        <p:blipFill>
          <a:blip r:embed="rId1"/>
          <a:stretch/>
        </p:blipFill>
        <p:spPr>
          <a:xfrm>
            <a:off x="1547640" y="1484280"/>
            <a:ext cx="561672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Содержимое 7" descr="liberal-308-1-12.jpg"/>
          <p:cNvPicPr/>
          <p:nvPr/>
        </p:nvPicPr>
        <p:blipFill>
          <a:blip r:embed="rId2"/>
          <a:stretch/>
        </p:blipFill>
        <p:spPr>
          <a:xfrm>
            <a:off x="1692360" y="4581360"/>
            <a:ext cx="53276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New Democratic part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Содержимое 4" descr="1555779c04832655b4ca135a754a5a14.jpg"/>
          <p:cNvPicPr/>
          <p:nvPr/>
        </p:nvPicPr>
        <p:blipFill>
          <a:blip r:embed="rId1"/>
          <a:stretch/>
        </p:blipFill>
        <p:spPr>
          <a:xfrm>
            <a:off x="755640" y="1773360"/>
            <a:ext cx="3170160" cy="453852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jack2.jpg"/>
          <p:cNvPicPr/>
          <p:nvPr/>
        </p:nvPicPr>
        <p:blipFill>
          <a:blip r:embed="rId2"/>
          <a:stretch/>
        </p:blipFill>
        <p:spPr>
          <a:xfrm>
            <a:off x="4284720" y="2852640"/>
            <a:ext cx="4248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Conservative part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Содержимое 4" descr="Conservative-Pa_1284829cl-8.jpg"/>
          <p:cNvPicPr/>
          <p:nvPr/>
        </p:nvPicPr>
        <p:blipFill>
          <a:blip r:embed="rId1"/>
          <a:stretch/>
        </p:blipFill>
        <p:spPr>
          <a:xfrm>
            <a:off x="250920" y="2781360"/>
            <a:ext cx="4038480" cy="306396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5" descr="harperh.jpg"/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1:21:27Z</dcterms:created>
  <dc:creator>1</dc:creator>
  <dc:description/>
  <dc:language>en-US</dc:language>
  <cp:lastModifiedBy>МОУ СОШ №27</cp:lastModifiedBy>
  <dcterms:modified xsi:type="dcterms:W3CDTF">2012-01-27T12:06:15Z</dcterms:modified>
  <cp:revision>18</cp:revision>
  <dc:subject/>
  <dc:title>Canada </dc:title>
</cp:coreProperties>
</file>